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49F-4BBB-433B-B5F7-204F6F52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C40-0032-4FE0-98B3-DE28F20E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26579-24DB-48C7-AC9C-7A89DBCE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03560-80BC-450C-B362-01A92FE9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D2087-D1D6-49F8-8319-ACCEB63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9C93C-C56A-44DF-A0D8-179F02A0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C0EFA-DB82-4CA1-90CA-ABAC6CB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70C37-B5CA-44FA-8FFE-25AFA30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0B3A1-C968-4140-833B-981604ED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70D27-AB67-4DC6-8CC2-0AB5DA5A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49D22-9812-4E68-A5F1-4760AE0E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AF352-9306-4151-9F06-D9C1B035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744-980A-4006-A5C0-A1F24975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CC403-9F07-4FEB-9769-29022B19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88492-E53C-404E-B6C9-E9EE588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820B8-1673-4D4B-87DB-80179877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2578F-7949-4CD5-B492-B56C7902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3ACFC-D024-457B-9BF0-1EDE29C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5CDF6-6C1A-4533-9912-3093F256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F68D2-1E5E-45A5-9C6F-AC4B4E8D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63DB4-FC2E-446C-A2FA-FF22B58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39DFB-7A63-429B-9ABD-B91FCAC0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8110A-56CB-4679-BA9F-5966A638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857-75C0-4A3C-8807-B3333915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3E2A-FD6E-470D-B8F4-CF45F6A8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FD269-DE23-43CE-9B06-59086C7D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32CC6-25D7-4E5F-AE44-C6407A5F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73E55-ADDC-4168-BEF1-F211A797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B9A0-B0CA-4E15-ACEE-C0846F1D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867EA-B519-46B8-B016-2A6D2A46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69C65-5B9D-4C75-96DA-3C176AF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8D7FC-0D74-463F-B6A0-DB41E658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C9696-9A70-4CC2-968A-A52A6BC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033C8-8244-4BDD-9595-923DFBC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23DC-2B18-4A74-8BFB-854360D3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A4CF2-45B6-47B7-99AD-46041720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4A270-7895-4128-881A-2CEE624B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184C2-34EA-4D80-9BF2-F0092B5E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8D10A-74B1-42CB-A7CA-0E3E5D9F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6DBC6-8513-41EF-8D59-8AF11074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FC922-2D27-420A-947A-497E806D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9189C-8638-434B-B7EC-8DBDF411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7789E-7623-4BE3-A97E-D9F4931D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67D7-B11A-4491-98DE-3F24C729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96BCC-9998-403F-81C1-70E1DAD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6B71-B537-486D-A405-FE0B73C3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20629-83C5-40E0-AA4B-27D6190A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22169-F319-470B-98E5-841F0B0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D7AB8-86A8-45A9-9496-B0E9B40A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6388A-9098-40F6-A9E0-7E023C2B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27D2D-BE63-4371-9407-E67AD53E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3AC2B-8292-4D97-8EB4-4F7B3276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D04F5-052B-4E2F-A8E1-1312D645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260AF-594F-4865-9F94-8DA582F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40E03-1356-4018-9C97-38078C8E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73594-42F8-48FA-A890-AA9AFD8E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F3E5-F009-4318-9BBB-B3B2F65A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80D08-4852-4857-92AE-C5F06359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F4763-486F-4B13-A039-6B9C9E26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8BE51-95E4-4F86-AC4E-7D63E420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42206-3F4A-4DE6-81FA-9B23C02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B74EF-C2E7-40E9-82A0-45F89FF6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25657-B11F-471F-8082-2BFB26BE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51519-906A-48FD-9A81-DDC5158B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AD14D-13C5-468B-982D-3825EFDA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636E9-E1C9-4943-9F78-E08244C8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33584-F7CF-4889-9825-65F6C9A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98D5-04CA-4D75-B0DA-D5A056BD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A026E-07DE-4DB6-980D-EAFD01F6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81FE0-8835-4BD0-B1CE-23F4AF3A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2D3D8-8948-4945-8D7E-8813DBA7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767B3-7428-4149-83AF-5451980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24459-FA06-4EC8-BFD7-16988E64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B9683-DD9C-4F7B-AF45-6D946662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AAB61-9F80-4B90-8B6E-CE645E7A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0B690-28B7-4F00-84EE-E55DB5DE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0F472-BDDA-45AA-BCC2-E7B02042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4DDD1-6448-41AD-8C6A-98779064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AF91-E96A-46C2-81E8-829EF329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F3D0D-1722-4CA8-899A-66F834D2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CF11C-67E0-4EF2-A139-DF28EFC7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257C3-DB57-498C-8CCA-3BE355F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6C236-CF7D-4744-A64A-1839CE6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5244E-41C7-4CE5-AABB-7E7531CA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84D8D-3934-42AE-9210-B0454D8B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62F1B-D876-4FDD-B570-B7BFFFB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9769A-6741-479F-8654-04C0B48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26D9B-7FBC-4E95-BBED-4928D2D4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64986-1D7E-415A-BE56-956C8FBB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808-BCC2-4F20-B3F3-00443BE2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CCEB2-0935-4435-B415-9070684C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1F48A-BE2E-43CF-BD38-D448B9AF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6FDAC-4FDD-4A90-95E2-B42B1D66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5D58B-704E-42BD-B303-CEEAC6A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0D04C-5F86-45EE-9260-F0A77319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7F411-A796-4884-8F19-5D1C7EA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5EA61-530A-4910-9924-3F525222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B769F-29D8-4717-B201-264EE69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4093FC-3815-4910-9546-A8B44EDF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05AB4-4D47-41A8-A7C7-FA19C12A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24DA-DC16-4A63-8C62-434B61F2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712F0-23AB-4315-A22D-1C081820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7531C-9CEF-44D6-82B9-B1AD3E25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F899C-666A-4313-AF73-FF8F65A0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BC96F-C4A6-4B36-BE9A-EDECD0C1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EEF9D-E65F-440A-85E8-FAC6076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2CC8C-0ACF-4146-BDE0-3B3C7E18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3E221-7C3D-495B-BF96-E311E50C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053E1-9265-4DE7-A8BB-CA4C841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94AFB-759E-49B1-84D1-731D3C77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D6E27-EF25-4823-87DE-274D7D9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CFD-92F5-4995-9693-71BA8C49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8E4-D48B-4485-BDE7-3E9135BF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05A7F-1D0C-4275-AF64-4AB17C9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292FF-4FB2-4A81-89F1-1C1133AB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A6C4A-7F04-4783-B7E2-0DCE4787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24A58-05C0-41DC-88C0-DB7E56FC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C6DEB-659F-4D71-B6E6-F7F1E743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F7490-025A-4339-8C14-6D51D3CF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E2142-FDAF-4E8F-BECD-FEFDD248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0E901-6343-49F2-ABB0-21FB5D0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627B5-A298-4290-83A1-FD08F648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33444-2374-44FF-9DBE-8F2F5E86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FEBF-678E-4130-97A6-48210C9F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726E7-ACAB-4C08-97F7-2A72FDE1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106DF-2ADD-48B0-9C1F-AF0D8C9A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40CC0-677A-4133-B5EF-32A0A46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9010E-1C25-45CC-BFF7-3FC55E6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B9964-A8D6-46D6-A607-AAE36E08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6CC188-1763-46F0-83F1-2C0151DB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25B6A-B55C-448F-A308-605A7B71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A0087D-D7F5-4A37-BBFE-7CE8EACF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C441AA-E283-43DF-BC88-C4DB8DC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5C399-FD75-4704-AB20-3198C2A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B382-C4FF-4A7C-AECC-4225548B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0F176-261E-48B7-AE2F-8D7C839E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97EB7-7D8D-434E-B384-83DC8B2C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32A1A-1CAB-4D51-91F1-80E95BE3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7AA2E-17CE-4622-BD2D-AB030C0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954031-79BE-42C9-BB28-D40434B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58E6E-ED47-4350-94AD-F5A79280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0FAA3-ADDF-4349-A94C-F829905F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374A5-2B02-4358-8406-D36925BE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7062B-8BB6-45E7-9363-4196A5ED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A9A61-8766-4FC8-A90C-FD9473B0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FF00-CDB6-4E12-ACC7-FAB09A66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F612D-69C9-430D-B8C2-C52B0371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B9919-77AA-4097-AA50-03D90E2C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22680-282F-4BA0-A548-272D073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09DAC-DE85-4438-9475-C317E77B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42CF5-1D03-41ED-A24B-F9F5073A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23384-E1C5-4579-BEC1-9B56AC52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511AB-55DA-428F-9EA3-EE6FA34D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8E5A1-7C26-4A08-A30D-15091F5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E8F8B-7D4C-40A9-90E7-ED8B5E4B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0A6EB-5501-4A50-A64D-2F6E77F0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0F28-5BE3-407C-B305-AA1BC7EA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C184D-B0B0-445B-B7B3-4774C143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4C6F7-8FC2-4AB9-9062-C2D8D3DD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61D36-D626-429B-8933-08E24A4D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28A9DF-1297-41C9-AC32-3A1DD67F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37192-8221-4076-9AA9-48045901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0AE18B-05FC-4A10-A2D7-7DC26767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927D18-0C66-48BD-8EF2-A26CBF82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AAE57-8BEA-4B81-AE3A-35FFB0E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DFBAE-8304-462D-A483-0E4AB22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B6773-E347-4408-912D-D888AE78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D95B-5A20-4722-88AC-E27F975E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71D3E-E7AC-414E-A92D-BB016D0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13528-D972-48C8-8D1D-0D673C36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5C2EE-6993-44A1-BEB7-6C05E3CB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0489EA-F798-4DB2-8A15-C856D2D2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D830C-7CB2-4794-AECF-F9ABE58C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619280-F3F8-494A-AAA8-32194CD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745A68-A7C6-418B-95FF-DC51D6C4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59959E-731B-401F-B66E-D4E014CD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716D24-D6B1-46BE-A889-B3BD652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4C1105-887B-4591-B377-14F4AF8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9106-8DD8-4148-950B-440D9936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4584FA-1B08-49BA-8157-3F4C9841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7B5AC-CA74-4D33-808D-A98FFAAC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3528F8-13C3-462D-8C77-496A8A62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F0ACF-89DB-4603-9532-42FF935B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4E1863-D7AC-4897-88A9-A38D9492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F1A86F-B754-4C59-99BB-238FEA0B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B0CB9A-30EF-4FC3-85DC-92794065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863B35-0A19-49ED-A356-D754EEF7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12248A-6178-43BF-A04A-C5943A9F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1994F-1FD1-452B-8995-DA84DECE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984B-7C74-40B4-87D3-EA6E767E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32158E-2557-4A12-8C71-B8FABF7F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A3719-588A-43D0-8EBA-E0016771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E4EF41-7433-4C83-83FD-48E7F5D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957F53-D739-4144-9B80-66D0AEE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ED3F42-F460-4FFC-9F42-DFD5A018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5EB54-E8BD-4335-8B84-38554DB7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ACB18D-A97C-426C-8B6F-F66A6534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CA64-BEF2-4F0F-B2C0-00DC58B7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5E18-16F0-4329-A7EB-4A6C84BE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08C-07F3-4F39-A843-4AE1F5ED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DAE7-4F6C-4A3E-9EEE-5D628B41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3D9A-29BB-4BF6-86E5-259B7BF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ACCE6-1E00-4308-8680-E8A7FBC5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D43B-113F-4404-8C6B-D315770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B615-BD78-411E-B22F-DF86EF1F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F837-70B6-4EEF-8240-9EE835E2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070C-03FC-40BE-853A-540A3C29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9D3B-0B14-47DE-AE9D-DCEFA27E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BD3F-AF5E-40FE-A845-67CA6CC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6C99-3D1E-4254-B81A-778A8A8F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021-F614-485B-A90D-390B1631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406A-E62F-4C27-B2E5-6DC4E16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0182-635B-4ACF-8D20-8CEC8E5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D2A5-0805-4128-8073-0085FB0A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E13F-E633-42A4-83EA-3F866A05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EDCEE-3A2E-4CCD-B5A0-DA915BA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27AA-8269-4191-8CAD-2F6B5F9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C724-2033-4FC6-9B4D-18B2F9AC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B76B-B5D4-4DC7-898D-9B770EE6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30235-32E8-4712-BE7E-4550B4B0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6152-FDF8-4642-9C8E-8A6EAE91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A3D-62E2-4E5B-8695-64EA1B4D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9180-6A98-43A4-B7F2-C26E4EF8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03BF-6EDB-46F8-AB20-3F0AE68F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D8507-FB8C-49DB-AC85-0B89B0D5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C255-3EBD-4127-84E4-B61DB17F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8B763-AD6B-4B7B-B9A6-7BB70CFA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62D96-FFC7-4E01-893F-2C6CB82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62B9-E3B7-46BC-8945-56367DC1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D8F4-2A9D-4D5A-8533-468FDEA7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F6E2D-0E29-44F3-AA83-0360EB5F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83D08-8D8B-4974-B4DF-339FD997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71F-AFAE-40B7-9124-1D468238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624A-D18F-4140-B27D-8244BD70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EE479-2EBE-4FFA-B101-1DA135AA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B00D-9DE9-4979-9145-3CC8060D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F211-B093-45CB-B406-76A15BC8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5055-AF2B-43C4-9E56-8ECE77C6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CE2D6-DDD8-4BE0-84D6-F5BA6688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B6B2-53FA-4D28-8F36-A1C89A4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43C7-7FE9-4F11-97C5-92EC3E60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3447-AB3E-4CBE-951D-05E7A77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8E1A-DB38-4FE3-A928-01F0D14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3CF-81F1-4D07-9868-2AF520B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2933-0900-48CF-AA4E-82D3148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CB576-B2AF-46DD-A560-516CDEE3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C51CA-EFB5-464E-B692-12906BEA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4D5F-A7C0-42FB-A519-8C3FA91B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A896-7FF0-499D-945F-94BECF5D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761F9-55E8-4A6C-9EF1-D0F7E31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A6A4-A067-4EF5-931B-883D3DE9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76CC-0F6C-4DF2-BC99-423577F3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56BE-2CF4-4847-9470-4CED27CF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7DA6F-465F-41BF-8C6B-0CB590B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163-BF6A-41D0-914B-0ADD80F8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6E48C-9164-44A1-BC91-707394E7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B07F5-6FBF-4683-A8D7-61A2EADE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1FAE0-9D57-41A1-BDE1-1A7D6638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10C48-8CC8-43E6-80D5-6F964DFD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DFD7-4F35-4728-928E-F4585BB7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B3DC-8E61-4CF4-95E9-15687CF8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4A0DE-8A37-4826-A746-1BEDA923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836C2-87CD-43EA-920F-179BA3B4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33388-9355-4D34-A936-69C92FFC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1131F-003F-4FE1-A96B-B4712EED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580-EDBA-4859-BB5F-3462C6C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B46DC-80D3-4FA0-B732-CAD1759C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4395-B02C-43CC-B05C-41489D97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9D9CA-EB71-40B0-A24F-ACB33A19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06BC9-B4B1-441B-B971-A6FCEB7D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CAF71-0DEF-40B7-B1CC-C81EBBAC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8199-C8CA-414B-9226-4ED5023B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17F7A-8CFB-4583-A265-B87F888C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F7C13-330B-47F1-A508-12A2DEC0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1CFEF-2BF3-44CF-B428-331304DF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CDA2D-45E6-49E9-82C9-99BA9CE9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3976-4C90-402D-B2EE-C5CCB3B0DB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1EAB-8DF9-430D-9A91-151D708EA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B9EF-ABCD-4C51-82C8-F1F8B1028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1851-D409-43A6-BA30-033E0C1D2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0FB-21B4-4A13-BEA8-58538ACBE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E87F-5123-401C-9E48-A5CF570F7A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4C18-7126-4E6C-98A7-E55B3D8316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C334-26EC-4D4B-AAD2-C8A49DB61A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9E6A-548D-479A-A3FF-07BB941BB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E468-C867-459E-B9C2-F7D68F76E2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8A81-BD3E-4649-AC2E-5282BDBC2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EDED-8561-407C-842C-0EC03E23D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9567-05A6-4253-9313-3669B38616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F263-8336-4C73-9F72-10D55A447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5FED-C844-4F40-907D-84D920214C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F536-DA52-43FC-AED7-33473BF01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4F7B-64B2-4324-89A1-477B656430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9C35-5E2F-474C-A175-BC6E557EAC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8842-325F-4183-B5FB-FC6ED519D1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AD70-B495-4D10-BDFB-F823E0D59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A90E-803C-426D-94A4-C53B71C0D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2419-DCA8-4093-8AB9-C8F350A9B6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32C3-D1EF-495B-A42F-0F4B3CC5CC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1C70-61F7-474A-86C3-3FC30A508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746E-6374-4EB6-8B1D-AC0BB2B2E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665-7122-4CE5-9BB9-68F844E682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94EB-D8AC-41F6-B628-44C8D1B012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1CE-5FFF-487A-BBEC-8FCA538EDA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1C1B-BFAB-4F43-B117-B32EA80EBE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9D76-5266-4986-800B-7CAAE4D225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9A34-4495-4F67-B96E-216B509237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CC90-4014-402A-8557-581A78AE74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C7C3-68BF-4628-A59D-1877F1482D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7704-4DAA-4FFC-8979-DFC5C1D12D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A3A2-B744-4C28-B796-848777B9F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B012-1EF4-40A5-81E7-D56E699FA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0E1A-CFA2-4B4F-864C-8D7E8F4CB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40E5-9CF7-4F9C-9753-9BC702348C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257-ABA2-4BE4-8944-DE909E277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B0F6-49B7-47C2-A44C-56E260CBC5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795-5365-4B82-8042-9401FD940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907-AF68-49FC-ABD3-2F46C519D6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766800" y="3019320"/>
            <a:ext cx="76104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361800" y="1085760"/>
            <a:ext cx="8420400" cy="46864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338040" y="2571840"/>
            <a:ext cx="8466120" cy="1714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476280" y="880920"/>
            <a:ext cx="8191440" cy="55533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059280" y="1757520"/>
            <a:ext cx="93636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763640" y="220500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1979640" y="2637000"/>
            <a:ext cx="129708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1116000" y="3490920"/>
            <a:ext cx="71928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5003640" y="436572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2771640" y="479736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9"/>
          <a:stretch/>
        </p:blipFill>
        <p:spPr>
          <a:xfrm>
            <a:off x="5148360" y="5229360"/>
            <a:ext cx="93636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0"/>
          <a:stretch/>
        </p:blipFill>
        <p:spPr>
          <a:xfrm>
            <a:off x="2627280" y="566100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1"/>
          <a:stretch/>
        </p:blipFill>
        <p:spPr>
          <a:xfrm>
            <a:off x="4716360" y="6093000"/>
            <a:ext cx="936720" cy="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719280" y="1071720"/>
            <a:ext cx="7704000" cy="47145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2771640" y="1944720"/>
            <a:ext cx="302436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2627280" y="2824200"/>
            <a:ext cx="180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4"/>
          <a:stretch/>
        </p:blipFill>
        <p:spPr>
          <a:xfrm>
            <a:off x="1979640" y="3673440"/>
            <a:ext cx="180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5"/>
          <a:stretch/>
        </p:blipFill>
        <p:spPr>
          <a:xfrm>
            <a:off x="1908000" y="4540320"/>
            <a:ext cx="129564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6"/>
          <a:stretch/>
        </p:blipFill>
        <p:spPr>
          <a:xfrm>
            <a:off x="4356000" y="454032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7"/>
          <a:stretch/>
        </p:blipFill>
        <p:spPr>
          <a:xfrm>
            <a:off x="1332000" y="5408640"/>
            <a:ext cx="107928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8"/>
          <a:stretch/>
        </p:blipFill>
        <p:spPr>
          <a:xfrm>
            <a:off x="3924360" y="5416560"/>
            <a:ext cx="792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8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